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7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Line 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8072280" y="95400"/>
            <a:ext cx="895680" cy="8953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4114440"/>
            <a:ext cx="76960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the West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YU Starbucks  manage to improve its customer service for the herds of “fooled” students that spend $4 for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rbucks coffee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429000" y="9144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bucks should phase-in the 4 initiatives accordingly to their ease of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76320" y="653724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2133720" y="5807160"/>
            <a:ext cx="358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133720" y="1523880"/>
            <a:ext cx="4495680" cy="3810240"/>
          </a:xfrm>
          <a:prstGeom prst="rect">
            <a:avLst/>
          </a:prstGeom>
          <a:solidFill>
            <a:srgbClr val="d3ff57"/>
          </a:solidFill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2133720" y="5791320"/>
            <a:ext cx="4495680" cy="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2133720" y="541008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6095880" y="541008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1523880" y="1523880"/>
            <a:ext cx="0" cy="381024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219320" y="4876920"/>
            <a:ext cx="914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247760" y="152388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-380880" y="1523880"/>
            <a:ext cx="1904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343400" y="1523880"/>
            <a:ext cx="0" cy="381024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2133720" y="3352680"/>
            <a:ext cx="4495680" cy="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4495680" y="4740120"/>
            <a:ext cx="152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ed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5105520" y="36259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6019920" y="4800600"/>
            <a:ext cx="380880" cy="380880"/>
          </a:xfrm>
          <a:prstGeom prst="ellipse">
            <a:avLst/>
          </a:pr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4629240" y="3662280"/>
            <a:ext cx="380880" cy="381240"/>
          </a:xfrm>
          <a:prstGeom prst="ellipse">
            <a:avLst/>
          </a:pr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1905120" y="254808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4"/>
          <p:cNvSpPr/>
          <p:nvPr/>
        </p:nvSpPr>
        <p:spPr>
          <a:xfrm>
            <a:off x="3505320" y="2624040"/>
            <a:ext cx="380880" cy="381240"/>
          </a:xfrm>
          <a:prstGeom prst="ellipse">
            <a:avLst/>
          </a:pr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2895480" y="1725480"/>
            <a:ext cx="152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-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6"/>
          <p:cNvSpPr/>
          <p:nvPr/>
        </p:nvSpPr>
        <p:spPr>
          <a:xfrm>
            <a:off x="2514600" y="1752480"/>
            <a:ext cx="380880" cy="381240"/>
          </a:xfrm>
          <a:prstGeom prst="ellipse">
            <a:avLst/>
          </a:pr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6133680" y="4229280"/>
            <a:ext cx="160020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315200" y="3633840"/>
            <a:ext cx="12193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ves to implement in the medium term (requiring invest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29"/>
          <p:cNvSpPr/>
          <p:nvPr/>
        </p:nvSpPr>
        <p:spPr>
          <a:xfrm rot="5400000">
            <a:off x="6133680" y="2347920"/>
            <a:ext cx="160020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8"/>
          <p:cNvSpPr/>
          <p:nvPr/>
        </p:nvSpPr>
        <p:spPr>
          <a:xfrm>
            <a:off x="7315200" y="1881360"/>
            <a:ext cx="1219320" cy="18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ves to implement immediately (Quick-wi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228600" y="228600"/>
            <a:ext cx="2971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5400" y="1219320"/>
            <a:ext cx="2628720" cy="3504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rcRect l="0" t="24616" r="0" b="0"/>
          <a:stretch/>
        </p:blipFill>
        <p:spPr>
          <a:xfrm>
            <a:off x="3137040" y="138240"/>
            <a:ext cx="4863960" cy="27572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800600" y="3595680"/>
            <a:ext cx="4343400" cy="32623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971800" y="1676520"/>
            <a:ext cx="3479760" cy="2616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191120" y="2057400"/>
            <a:ext cx="1523880" cy="274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914400"/>
            <a:ext cx="3429000" cy="2286000"/>
          </a:xfrm>
          <a:prstGeom prst="wedgeEllipseCallout">
            <a:avLst>
              <a:gd name="adj1" fmla="val -59166"/>
              <a:gd name="adj2" fmla="val 32361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hat is your name? It’s for a project!! Reall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anjay, shouldn’t you be counting???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Fiel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1" descr=""/>
          <p:cNvPicPr/>
          <p:nvPr/>
        </p:nvPicPr>
        <p:blipFill>
          <a:blip r:embed="rId1"/>
          <a:stretch/>
        </p:blipFill>
        <p:spPr>
          <a:xfrm>
            <a:off x="787320" y="1706400"/>
            <a:ext cx="7569360" cy="47707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8"/>
          <p:cNvSpPr/>
          <p:nvPr/>
        </p:nvSpPr>
        <p:spPr>
          <a:xfrm>
            <a:off x="76320" y="1143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. # of clients coming in. Mon-T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8"/>
          <p:cNvSpPr/>
          <p:nvPr/>
        </p:nvSpPr>
        <p:spPr>
          <a:xfrm>
            <a:off x="457200" y="6570720"/>
            <a:ext cx="86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sumes continuous demand after 9:20 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rial"/>
              </a:rPr>
              <a:t>Fiel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76320" y="1143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y. Mon-T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"/>
          <p:cNvPicPr/>
          <p:nvPr/>
        </p:nvPicPr>
        <p:blipFill>
          <a:blip r:embed="rId1"/>
          <a:stretch/>
        </p:blipFill>
        <p:spPr>
          <a:xfrm>
            <a:off x="1386000" y="1554120"/>
            <a:ext cx="6370560" cy="4770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28"/>
          <p:cNvSpPr/>
          <p:nvPr/>
        </p:nvSpPr>
        <p:spPr>
          <a:xfrm>
            <a:off x="457200" y="657072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relevant since employees were not working at full capa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Inputs (probability distribu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76320" y="114300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457200" y="657072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k capacity for registers = queue for registers is &gt; 15; Peak for drink preparation = queue for drinks &gt;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87232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bucks and the “coffee experienc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169920" y="1371600"/>
            <a:ext cx="1582560" cy="167652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88" y="0"/>
                </a:lnTo>
                <a:lnTo>
                  <a:pt x="21600" y="10800"/>
                </a:lnTo>
                <a:lnTo>
                  <a:pt x="198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Mi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2209680" y="15638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spire and nurture the human spirit— one person, one cup, and one neighborhood at a time (how much time?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2171880" cy="3009960"/>
          </a:xfrm>
          <a:prstGeom prst="rect">
            <a:avLst/>
          </a:prstGeom>
          <a:ln w="0">
            <a:noFill/>
          </a:ln>
        </p:spPr>
      </p:pic>
      <p:sp>
        <p:nvSpPr>
          <p:cNvPr id="84" name="Cloud Callout 7"/>
          <p:cNvSpPr/>
          <p:nvPr/>
        </p:nvSpPr>
        <p:spPr>
          <a:xfrm>
            <a:off x="3352680" y="2438280"/>
            <a:ext cx="5562720" cy="2438640"/>
          </a:xfrm>
          <a:prstGeom prst="cloudCallout">
            <a:avLst>
              <a:gd name="adj1" fmla="val -35976"/>
              <a:gd name="adj2" fmla="val 59699"/>
            </a:avLst>
          </a:prstGeom>
          <a:solidFill>
            <a:srgbClr val="eaeaea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s this really what they think is happening in the west 4</a:t>
            </a:r>
            <a:r>
              <a:rPr b="1" lang="en-US" sz="1800" spc="-1" strike="noStrike" baseline="30000">
                <a:solidFill>
                  <a:srgbClr val="0099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coffee shop? Because all I see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West 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t is quite an experience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8773" r="0" b="0"/>
          <a:stretch/>
        </p:blipFill>
        <p:spPr>
          <a:xfrm>
            <a:off x="76320" y="1219320"/>
            <a:ext cx="6953040" cy="47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29200" y="3774960"/>
            <a:ext cx="41148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98"/>
          <p:cNvGraphicFramePr/>
          <p:nvPr/>
        </p:nvGraphicFramePr>
        <p:xfrm>
          <a:off x="2505240" y="2314440"/>
          <a:ext cx="6638760" cy="34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5240" y="2314440"/>
                    <a:ext cx="663876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5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normal day, service level at Starbucks is resulting in a loss of up to 320 cl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52280" y="1295280"/>
            <a:ext cx="2362320" cy="49532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4953240"/>
              <a:gd name="textAreaBottom" fmla="*/ 4953600 h 495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2" y="0"/>
                </a:lnTo>
                <a:lnTo>
                  <a:pt x="21600" y="10800"/>
                </a:lnTo>
                <a:lnTo>
                  <a:pt x="20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46280" y="49212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152280" y="1447920"/>
            <a:ext cx="2210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waiting times is driving a high churn rate with potential indirect consequences in customer satisfa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76320" y="6537240"/>
            <a:ext cx="739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 measures (number of total customers versus customers giving up across a full day of work, 7 AM  to 12 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89"/>
          <p:cNvGraphicFramePr/>
          <p:nvPr/>
        </p:nvGraphicFramePr>
        <p:xfrm>
          <a:off x="7137360" y="2041560"/>
          <a:ext cx="202896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37360" y="2041560"/>
                    <a:ext cx="202896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Rectangle 2"/>
          <p:cNvSpPr/>
          <p:nvPr/>
        </p:nvSpPr>
        <p:spPr>
          <a:xfrm>
            <a:off x="8188200" y="2287440"/>
            <a:ext cx="45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7639200" y="356076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819520" y="1309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customers giving up (on a 20 minute s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152280" y="3193920"/>
            <a:ext cx="221004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0 frustrated students a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80 irritated students a week (Mon – Thu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,600 very angry students a year (20 school 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5560" rIns="2556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 volatility across work station’s capacity rates decreases overall servic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04920" y="1676520"/>
            <a:ext cx="1582560" cy="228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ash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46280" y="49212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304920" y="4114800"/>
            <a:ext cx="1582560" cy="2286000"/>
          </a:xfrm>
          <a:custGeom>
            <a:avLst/>
            <a:gdLst>
              <a:gd name="textAreaLeft" fmla="*/ 0 w 1582560"/>
              <a:gd name="textAreaRight" fmla="*/ 1582920 w 158256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t the 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12"/>
          <p:cNvGraphicFramePr/>
          <p:nvPr/>
        </p:nvGraphicFramePr>
        <p:xfrm>
          <a:off x="2590920" y="1676520"/>
          <a:ext cx="609588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6095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4"/>
          <p:cNvGraphicFramePr/>
          <p:nvPr/>
        </p:nvGraphicFramePr>
        <p:xfrm>
          <a:off x="2590920" y="4114800"/>
          <a:ext cx="6095880" cy="2286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114800"/>
                    <a:ext cx="6095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28"/>
          <p:cNvSpPr/>
          <p:nvPr/>
        </p:nvSpPr>
        <p:spPr>
          <a:xfrm>
            <a:off x="76320" y="1143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of clients/beverages served* (on a 20 minute sl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457200" y="6537240"/>
            <a:ext cx="86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eld measures (27 observations of 20 minute slots between 7 AM  to 12 AM, Mon-Thu) during peak times (always people queue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was simulated using Simul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746280" y="49212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"/>
          <p:cNvPicPr/>
          <p:nvPr/>
        </p:nvPicPr>
        <p:blipFill>
          <a:blip r:embed="rId1"/>
          <a:srcRect l="19502" t="34380" r="18004" b="9376"/>
          <a:stretch/>
        </p:blipFill>
        <p:spPr>
          <a:xfrm>
            <a:off x="304920" y="1230480"/>
            <a:ext cx="7770600" cy="52466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7" name="AutoShape 15"/>
          <p:cNvSpPr/>
          <p:nvPr/>
        </p:nvSpPr>
        <p:spPr>
          <a:xfrm>
            <a:off x="380880" y="5562720"/>
            <a:ext cx="1524240" cy="457200"/>
          </a:xfrm>
          <a:prstGeom prst="wedgeRoundRectCallout">
            <a:avLst>
              <a:gd name="adj1" fmla="val 43439"/>
              <a:gd name="adj2" fmla="val -114236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point for served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152280" y="2819520"/>
            <a:ext cx="1981440" cy="1600200"/>
          </a:xfrm>
          <a:prstGeom prst="wedgeRoundRectCallout">
            <a:avLst>
              <a:gd name="adj1" fmla="val 31972"/>
              <a:gd name="adj2" fmla="val -61208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s higher capacity when queue is over 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Normal distr. (mi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76 ;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48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B*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45 ;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13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8"/>
          <p:cNvSpPr/>
          <p:nvPr/>
        </p:nvSpPr>
        <p:spPr>
          <a:xfrm>
            <a:off x="2590920" y="1523880"/>
            <a:ext cx="1523880" cy="533520"/>
          </a:xfrm>
          <a:prstGeom prst="wedgeRoundRectCallout">
            <a:avLst>
              <a:gd name="adj1" fmla="val -11875"/>
              <a:gd name="adj2" fmla="val 95833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for the beverages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2743200" y="3048120"/>
            <a:ext cx="2590920" cy="2286000"/>
          </a:xfrm>
          <a:prstGeom prst="wedgeRoundRectCallout">
            <a:avLst>
              <a:gd name="adj1" fmla="val 31435"/>
              <a:gd name="adj2" fmla="val -65138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Normal distr. (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74 ;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36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B*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0.57 ;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=15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hier #2 with 70% efficienc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% of clients go directly to exit point (clients with no requests for drinks made at drink preparation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4038480" y="5562720"/>
            <a:ext cx="1524240" cy="457200"/>
          </a:xfrm>
          <a:prstGeom prst="wedgeRoundRectCallout">
            <a:avLst>
              <a:gd name="adj1" fmla="val -65314"/>
              <a:gd name="adj2" fmla="val 1388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t point for unserved cl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6781680" y="5486400"/>
            <a:ext cx="2133720" cy="990720"/>
          </a:xfrm>
          <a:prstGeom prst="wedgeRoundRectCallout">
            <a:avLst>
              <a:gd name="adj1" fmla="val -61162"/>
              <a:gd name="adj2" fmla="val 6412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y point Exponential distr. with different inter arrival times for different periods of the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2"/>
          <p:cNvSpPr/>
          <p:nvPr/>
        </p:nvSpPr>
        <p:spPr>
          <a:xfrm>
            <a:off x="6324480" y="3048120"/>
            <a:ext cx="1524240" cy="304560"/>
          </a:xfrm>
          <a:prstGeom prst="wedgeRoundRectCallout">
            <a:avLst>
              <a:gd name="adj1" fmla="val -47500"/>
              <a:gd name="adj2" fmla="val 114583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line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6781680" y="3581280"/>
            <a:ext cx="1752840" cy="1371600"/>
          </a:xfrm>
          <a:prstGeom prst="wedgeRoundRectCallout">
            <a:avLst>
              <a:gd name="adj1" fmla="val -72736"/>
              <a:gd name="adj2" fmla="val 11574"/>
              <a:gd name="adj3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urn decision poi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% probability of churn when line is bigger then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"/>
          <p:cNvSpPr/>
          <p:nvPr/>
        </p:nvSpPr>
        <p:spPr>
          <a:xfrm>
            <a:off x="2362320" y="55627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57200" y="657072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k capacity for registers = queue for registers is &gt; 15; Peak for drink preparation = queue for drinks &gt;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was simulated using Simul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odel Demo V2.avi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479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467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initiatives would significantly increase service level and potentially eliminate ch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152280" y="2085840"/>
            <a:ext cx="1219320" cy="5050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1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Bas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93640" y="49212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447920" y="1628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76320" y="6537240"/>
            <a:ext cx="86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152280" y="2666880"/>
            <a:ext cx="1219320" cy="7621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10-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52280" y="3552840"/>
            <a:ext cx="1219320" cy="9144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52280" y="4572000"/>
            <a:ext cx="1219320" cy="9907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Com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1523880" y="1981080"/>
            <a:ext cx="7391520" cy="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952880" y="16891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8"/>
          <p:cNvSpPr/>
          <p:nvPr/>
        </p:nvSpPr>
        <p:spPr>
          <a:xfrm>
            <a:off x="6172200" y="1476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uing time (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7620120" y="1476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ime in system (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4952880" y="1152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performance mea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5029200" y="1495440"/>
            <a:ext cx="3886200" cy="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3"/>
          <p:cNvSpPr/>
          <p:nvPr/>
        </p:nvSpPr>
        <p:spPr>
          <a:xfrm>
            <a:off x="1523880" y="2666880"/>
            <a:ext cx="73915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1523880" y="3476520"/>
            <a:ext cx="73915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5"/>
          <p:cNvSpPr/>
          <p:nvPr/>
        </p:nvSpPr>
        <p:spPr>
          <a:xfrm>
            <a:off x="1523880" y="4572000"/>
            <a:ext cx="73915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1447920" y="213372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447920" y="266688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 purchased card with 10 equal drinks that can be used to order directly from the beverages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1447920" y="4648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m in the beverages area printing all orders coming from reg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1447920" y="35528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dicate 1 cashier to customers paying with Starbucks card or Campus C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ssumes increase in number of customers using this payment metho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5029200" y="2133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6248520" y="2133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5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7620120" y="21337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8.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152280" y="5638680"/>
            <a:ext cx="1219320" cy="9144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5"/>
          <p:cNvSpPr/>
          <p:nvPr/>
        </p:nvSpPr>
        <p:spPr>
          <a:xfrm>
            <a:off x="1523880" y="5562720"/>
            <a:ext cx="73915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029200" y="27432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5 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6248520" y="27432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5.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1.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7620120" y="27432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8.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5029200" y="373392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7 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8"/>
          <p:cNvSpPr/>
          <p:nvPr/>
        </p:nvSpPr>
        <p:spPr>
          <a:xfrm>
            <a:off x="6248520" y="373392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4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21.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7620120" y="373392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7.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9.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8"/>
          <p:cNvSpPr/>
          <p:nvPr/>
        </p:nvSpPr>
        <p:spPr>
          <a:xfrm>
            <a:off x="5029200" y="472428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4 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8"/>
          <p:cNvSpPr/>
          <p:nvPr/>
        </p:nvSpPr>
        <p:spPr>
          <a:xfrm>
            <a:off x="6248520" y="472428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4.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19.6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7620120" y="472428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7.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9.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029200" y="57150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10 p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6248520" y="57150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3.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33.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7620120" y="5715000"/>
            <a:ext cx="10666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7.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(-15.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1447920" y="563868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machine for clients who  want to order drinks from the beverages area. Assumes previous measure is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70000"/>
            <a:ext cx="8001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 initiatives were built into the model according to their spec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593640" y="458784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783576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6754680" y="101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1447920" y="12952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ges i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76320" y="6537240"/>
            <a:ext cx="861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152280" y="1724040"/>
            <a:ext cx="1219320" cy="8380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10-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152280" y="2666880"/>
            <a:ext cx="1219320" cy="1019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Pri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52280" y="3809880"/>
            <a:ext cx="1219320" cy="9907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Dri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Com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1523880" y="1647720"/>
            <a:ext cx="4648320" cy="0"/>
          </a:xfrm>
          <a:prstGeom prst="line">
            <a:avLst/>
          </a:prstGeom>
          <a:ln w="28440">
            <a:solidFill>
              <a:srgbClr val="00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1523880" y="2629080"/>
            <a:ext cx="46483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1523880" y="3776760"/>
            <a:ext cx="46483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1447920" y="1724040"/>
            <a:ext cx="4572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assumes 10% of customers will go directly to the drink area independently of the size of the line for the regis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1447920" y="3809880"/>
            <a:ext cx="4572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s a 10% efficiency increase across work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1447920" y="2666880"/>
            <a:ext cx="457200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s 50% of clients would adhere to either Starbucks Card or Campus Ca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cashier’s time per client is set to 0.5 min (fixe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152280" y="4952880"/>
            <a:ext cx="1219320" cy="1343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1" y="0"/>
                </a:lnTo>
                <a:lnTo>
                  <a:pt x="21600" y="10800"/>
                </a:lnTo>
                <a:lnTo>
                  <a:pt x="188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Autom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1"/>
          <p:cNvSpPr/>
          <p:nvPr/>
        </p:nvSpPr>
        <p:spPr>
          <a:xfrm>
            <a:off x="1523880" y="4890960"/>
            <a:ext cx="4648320" cy="0"/>
          </a:xfrm>
          <a:prstGeom prst="line">
            <a:avLst/>
          </a:prstGeom>
          <a:ln w="28440">
            <a:solidFill>
              <a:srgbClr val="007a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1447920" y="5000760"/>
            <a:ext cx="457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s 10% efficiency increase across work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register (automatic) with same capacity as current registers (conservative approa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es 30% of clients only go for drinks and 50% of these would use the automatic vendor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7926840" y="1314360"/>
            <a:ext cx="997920" cy="20952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0" tIns="0" bIns="27360" anchor="t">
            <a:spAutoFit/>
          </a:bodyPr>
          <a:p>
            <a:pPr marL="343080" indent="-343080" algn="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47"/>
          <p:cNvCxnSpPr>
            <a:stCxn id="204" idx="0"/>
            <a:endCxn id="204" idx="1"/>
          </p:cNvCxnSpPr>
          <p:nvPr/>
        </p:nvCxnSpPr>
        <p:spPr>
          <a:xfrm>
            <a:off x="7927560" y="1314360"/>
            <a:ext cx="1080" cy="2102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06" name="AutoShape 48"/>
          <p:cNvCxnSpPr>
            <a:stCxn id="204" idx="2"/>
            <a:endCxn id="204" idx="3"/>
          </p:cNvCxnSpPr>
          <p:nvPr/>
        </p:nvCxnSpPr>
        <p:spPr>
          <a:xfrm>
            <a:off x="7927560" y="1523520"/>
            <a:ext cx="996120" cy="1080"/>
          </a:xfrm>
          <a:prstGeom prst="straightConnector1">
            <a:avLst/>
          </a:prstGeom>
          <a:ln w="25560">
            <a:solidFill>
              <a:srgbClr val="808080"/>
            </a:solidFill>
            <a:miter/>
          </a:ln>
        </p:spPr>
      </p:cxnSp>
      <p:sp>
        <p:nvSpPr>
          <p:cNvPr id="207" name="AutoShape 49"/>
          <p:cNvSpPr/>
          <p:nvPr/>
        </p:nvSpPr>
        <p:spPr>
          <a:xfrm rot="5400000">
            <a:off x="4838400" y="3848040"/>
            <a:ext cx="33526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6858000" y="3444840"/>
            <a:ext cx="1828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assumptions would need further field analysis for 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22:35:01Z</dcterms:created>
  <dc:creator>vitogiu</dc:creator>
  <dc:description/>
  <dc:language>en-US</dc:language>
  <cp:lastModifiedBy>Corporate</cp:lastModifiedBy>
  <dcterms:modified xsi:type="dcterms:W3CDTF">2009-04-29T02:26:12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PowerPoint Presentation</vt:lpwstr>
  </property>
  <property fmtid="{D5CDD505-2E9C-101B-9397-08002B2CF9AE}" pid="7" name="Version">
    <vt:r8>1</vt:r8>
  </property>
  <property fmtid="{D5CDD505-2E9C-101B-9397-08002B2CF9AE}" pid="8" name="docid">
    <vt:lpwstr/>
  </property>
</Properties>
</file>